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6.jpeg" ContentType="image/jpeg"/>
  <Override PartName="/ppt/media/image15.png" ContentType="image/png"/>
  <Override PartName="/ppt/media/image1.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E53D-9F81-4825-8264-D34EFDCF362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DC89-09C8-4616-829A-9F1DD711596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B52E-441C-42A2-AFE9-FA8305EA0B0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091C-6432-40FE-8920-1A836F46FF6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D274-4B95-4C6D-99D4-F7F32C0453E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B099-DBEA-4D4B-8A42-30881CBA936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A0319-8B2B-4639-AA70-3AB54ADB131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27D4-BB4C-4EEE-B0D7-7E3927E8E38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D79F-8266-4FF6-96C0-21F595074B8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FD1B7-B074-4874-9F56-87AC0941918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0266-DA68-48B2-A220-9E8C0D25B5F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AE46-7EB3-4A4E-B684-EDB43099B03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DBCA-AEF8-4CA4-BACE-C05595CAEA2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2765-34C4-43D3-9358-8C0F0CCFDE6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5D1C-38D1-4F7B-B090-056B0D3E0A4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F439-C816-4854-B347-09F3655136D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81B9-2955-4943-8EDC-EDBD4D29BD8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A8A89-1D79-4DCB-B6EC-119369BAB50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67997-3B03-4894-8B3C-3D36DB0A8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02279-F168-4CBC-BA08-9E2EA6281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60105-415A-4D71-A01A-54BD0DD53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216AD-99CD-424F-A141-90F498E18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005E6-D5CD-4698-B47D-A19026735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ED3EC-96DD-49F3-8E16-BB92107C4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4D1A2-5F8C-46D6-922F-AA370B850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BCC4D-EFE5-4A4D-AA64-25C370A70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D51A1-A686-4D40-A117-993ED87FA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D6E1E-DA58-4236-BF6D-26629059F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2E577-0D78-4BB7-AC0A-B13DC19FE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F1746-42E1-4287-AB56-1B5CD6E14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6C6EA-58E8-47F4-933B-B860EB973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43957-DF47-43E7-B365-BA9C1F8BE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B798D-8050-4731-A907-FE77A0910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18D8A3-F75C-4C6A-90F6-4C1782ABA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713F62-07A2-4E54-900C-290A1D118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5CDBC4-9A6B-448D-8638-24DAE2C5BA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494EC5-9C6F-4A6B-80BC-12160DA60F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7091A6-B19C-4238-9E0E-300A943E5D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48DE1A-0D58-42C0-8AE3-3D4F451383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D891E1-7E22-450C-8B3C-F17832A7CC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F1F64-9366-4015-9BD4-1269246EC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F0F5CE-72AE-4D63-8C4F-FEA7546F31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B9D91-63CF-41E3-B5E0-11A74C45BD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5D2E04-5FE8-4A5C-A2B1-0F53FEA119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59EEFA-2AB6-47CD-BE5F-6691B1132B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EFD021-1C04-4774-B267-92A32D6A06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9930B1-A3B4-42FB-95D3-44F38B25A8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9A130B-DA97-4DD6-838A-5969C77AC6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F3D513-C898-4A3A-AEB3-37485A46B5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42D2AF-D256-442D-8132-F0D393F492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EDE122-8E2F-4B0E-A518-AECB439AAF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72C3B-0CF1-49B7-A0C2-668D6B6F2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A85715-996A-439B-A865-5C4F6C38D4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98A459-0E64-4292-9EE6-CD49585F0B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734A35-BE12-436B-B750-B8252FDB02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61C724-8AA9-4A26-8FBA-AD44CA16E9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E39BD5-677D-41A2-9446-4321B1355A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13D5A7-1A1C-417B-89D2-5643EF5DEC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602664-19FB-4157-9BCF-E389B58523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EC04C2-E770-4AC7-BAAB-2CD6882FB8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1F8057-3BCE-4BF1-A0DC-CF6E488F51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B028A9-8646-48E7-8288-A2F7DD04A2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C37D8-ED2D-43B4-B27E-0723F30B5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578C91-76AF-432A-BD4A-3169D9ACC2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1FBC8F-FCE5-4D19-875F-E1888BCA9C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4126D3-652F-46F9-B35A-F1202C4097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4A384F-0E3E-40FC-A032-F82B09D328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64E225-B485-4D3B-91CD-967F75F523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E9FFA3-96D2-4DC8-9FE7-A1B505C834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D0A28F-AC05-49F4-A53D-27AEA42488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53EF97-D8E3-47BA-9296-DA95547186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3F353E-A5E6-4EA1-B604-B6B0F271B4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1A3DE6-AFCE-418F-AE2F-72A07720B1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74812-CC9B-427C-B368-8C11B6288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81D5B7-5EAE-4704-B0B7-492DA83F6D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84E5B6-6854-405E-A8C4-A883FFE331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18A1CF-2E06-47D7-BD27-05D73E4751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B80AEB-F067-4BEF-A3BE-34D15EBBE9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84713E-88D7-49C1-B77B-C79339FFB3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A5CFFB-E973-4590-8FA7-165802C2FE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ACE36E-DCF4-4171-BE7E-40E75AABD9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140F6F-02B3-40B7-A624-41039F8DCC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7E2F2C-7BF7-4D36-953A-D1F387C703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DE1046-B031-460E-BF46-C5A216C76B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CACA2-162E-40E8-A7DA-B0335698A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697BB1-6C35-4DCD-898A-50F78BCD67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106A2C-ACA3-490E-968A-4270E6889A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ABDCA5-0DCB-4345-8FDA-88E3E09725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04E3E4-821F-4BCF-B12E-CE3DABECF8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57D416-3444-4AE0-BED1-737EB2C1F3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D7B34F-3757-4306-8E28-065FDE5F04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CEF9C6-7934-4AC8-B70E-9F446FD341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ED8C52-0FE8-4988-B547-316B8ED81E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C08A0D-839C-418B-B975-7B86B176DB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F50D92-BBED-4A46-A1A8-13C3ADD446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F5640-BC05-484B-87DE-1AF853F86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B979A9-F8C9-4D22-BB03-794FDDEB2D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5509F6-3384-49F7-8F1E-59DB595B15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E0C98A-6B0E-4595-8DF6-CA72CF8EE0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104E31-1197-44C6-88FF-4FAAE91EFA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B70A84-738D-4D87-B2A5-DF9D4294BD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65766-8E8E-47FF-AF19-51DDAAB64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9FEF4-16E5-4981-8323-44C225E1A3B0}"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42407-B49F-4C17-939E-40362804C5E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815D-B608-4AF6-9E85-4EC41CB17C02}"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C30A-FA21-4660-B843-C39AF4505B8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F77C-B098-4319-A78C-84187CDCB7B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2B47-EBF8-4F79-BC2A-A6F26CFADB46}"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98C58-398B-47BA-BDB1-3C819D76544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682560" y="4237200"/>
            <a:ext cx="8010720" cy="2090520"/>
          </a:xfrm>
          <a:prstGeom prst="rect">
            <a:avLst/>
          </a:prstGeom>
          <a:ln w="0">
            <a:noFill/>
          </a:ln>
        </p:spPr>
      </p:pic>
      <p:sp>
        <p:nvSpPr>
          <p:cNvPr id="376"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PSC 203</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4" name="Picture 2" descr=""/>
          <p:cNvPicPr/>
          <p:nvPr/>
        </p:nvPicPr>
        <p:blipFill>
          <a:blip r:embed="rId1"/>
          <a:stretch/>
        </p:blipFill>
        <p:spPr>
          <a:xfrm>
            <a:off x="2314440" y="947880"/>
            <a:ext cx="4515120" cy="496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1</a:t>
            </a:r>
            <a:endParaRPr b="0" lang="en-US" sz="4000" spc="-1" strike="noStrike">
              <a:solidFill>
                <a:srgbClr val="c1eeff"/>
              </a:solidFill>
              <a:latin typeface="Consolas"/>
            </a:endParaRPr>
          </a:p>
        </p:txBody>
      </p:sp>
      <p:sp>
        <p:nvSpPr>
          <p:cNvPr id="40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7" name="Picture 2" descr="http://wiki.ucalgary.ca/images/0/0c/Problemstatement1.JPG"/>
          <p:cNvPicPr/>
          <p:nvPr/>
        </p:nvPicPr>
        <p:blipFill>
          <a:blip r:embed="rId1"/>
          <a:stretch/>
        </p:blipFill>
        <p:spPr>
          <a:xfrm>
            <a:off x="533520" y="2209680"/>
            <a:ext cx="8191440" cy="251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0" name="Picture 2" descr="http://wiki.ucalgary.ca/images/6/6f/Solution1.JPG"/>
          <p:cNvPicPr/>
          <p:nvPr/>
        </p:nvPicPr>
        <p:blipFill>
          <a:blip r:embed="rId1"/>
          <a:stretch/>
        </p:blipFill>
        <p:spPr>
          <a:xfrm>
            <a:off x="2362320" y="914400"/>
            <a:ext cx="5057640" cy="521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2</a:t>
            </a:r>
            <a:endParaRPr b="0" lang="en-US" sz="4000" spc="-1" strike="noStrike">
              <a:solidFill>
                <a:srgbClr val="c1eeff"/>
              </a:solidFill>
              <a:latin typeface="Consolas"/>
            </a:endParaRPr>
          </a:p>
        </p:txBody>
      </p:sp>
      <p:sp>
        <p:nvSpPr>
          <p:cNvPr id="412" name=""/>
          <p:cNvSpPr txBox="1"/>
          <p:nvPr/>
        </p:nvSpPr>
        <p:spPr>
          <a:xfrm>
            <a:off x="838080" y="1371600"/>
            <a:ext cx="7772400" cy="4572000"/>
          </a:xfrm>
          <a:prstGeom prst="rect">
            <a:avLst/>
          </a:prstGeom>
          <a:noFill/>
          <a:ln w="0">
            <a:noFill/>
          </a:ln>
        </p:spPr>
        <p:txBody>
          <a:bodyPr anchor="t">
            <a:normAutofit fontScale="88000"/>
          </a:bodyPr>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or this case study, the task is of constructing the design elements for a system that can be used to manage courses and classes for an organization that specializes in providing training. The name of the system is Courseware System. The organization offers courses in a variety of areas such as learning management techniques and understanding different software languages and technologies. Each course is made up of a set of topics. Tutors in the organization are assigned courses to teach according to the area that they specialize in and their availability. The organization publishes and maintains a calendar of the different courses and the assigns tutors every year.</a:t>
            </a:r>
            <a:endParaRPr b="0" lang="en-US" sz="2000" spc="-1" strike="noStrike">
              <a:solidFill>
                <a:srgbClr val="ffffff"/>
              </a:solidFill>
              <a:latin typeface="Corbel"/>
            </a:endParaRPr>
          </a:p>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re is a group of course administrators in the organization who manage the courses including course content, assigning courses to tutors, and defining the course schedule. The training organization aims to use the Courseware System to get a better control and visibility to the course management and to also streamline the process of generating and managing schedules for different </a:t>
            </a:r>
            <a:r>
              <a:rPr b="0" lang="en-US" sz="1800" spc="-1" strike="noStrike">
                <a:solidFill>
                  <a:srgbClr val="ffffff"/>
                </a:solidFill>
                <a:latin typeface="Corbel"/>
              </a:rPr>
              <a:t>courses</a:t>
            </a:r>
            <a:r>
              <a:rPr b="0" lang="en-US" sz="1600" spc="-1" strike="noStrike">
                <a:solidFill>
                  <a:srgbClr val="ffffff"/>
                </a:solidFill>
                <a:latin typeface="Corbel"/>
              </a:rPr>
              <a:t>.</a:t>
            </a: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5" name="Picture 2" descr=""/>
          <p:cNvPicPr/>
          <p:nvPr/>
        </p:nvPicPr>
        <p:blipFill>
          <a:blip r:embed="rId1"/>
          <a:stretch/>
        </p:blipFill>
        <p:spPr>
          <a:xfrm>
            <a:off x="914400" y="533520"/>
            <a:ext cx="7743960" cy="578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 descriptions</a:t>
            </a:r>
            <a:endParaRPr b="0" lang="en-US" sz="4000" spc="-1" strike="noStrike">
              <a:solidFill>
                <a:srgbClr val="c1eeff"/>
              </a:solidFill>
              <a:latin typeface="Consolas"/>
            </a:endParaRPr>
          </a:p>
        </p:txBody>
      </p:sp>
      <p:sp>
        <p:nvSpPr>
          <p:cNvPr id="41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 The nam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2. A descrip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3. Actor(s) involve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e-condi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4. Main flow</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5. Post-condi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6. Alternate flow</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286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 descriptions</a:t>
            </a:r>
            <a:endParaRPr b="0" lang="en-US" sz="4000" spc="-1" strike="noStrike">
              <a:solidFill>
                <a:srgbClr val="c1eeff"/>
              </a:solidFill>
              <a:latin typeface="Consolas"/>
            </a:endParaRPr>
          </a:p>
        </p:txBody>
      </p:sp>
      <p:graphicFrame>
        <p:nvGraphicFramePr>
          <p:cNvPr id="419" name=""/>
          <p:cNvGraphicFramePr/>
          <p:nvPr/>
        </p:nvGraphicFramePr>
        <p:xfrm>
          <a:off x="1905120" y="990720"/>
          <a:ext cx="6080040" cy="5087880"/>
        </p:xfrm>
        <a:graphic>
          <a:graphicData uri="http://schemas.openxmlformats.org/drawingml/2006/table">
            <a:tbl>
              <a:tblPr/>
              <a:tblGrid>
                <a:gridCol w="6080040"/>
              </a:tblGrid>
              <a:tr h="245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Name:  Manage course information</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24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Description:  The course admin changes the information of an existing course</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246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Primary actors:  Course Admin</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734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Preconditions: </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user is correctly logged in as a course administrator.</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user has selected the “Modify Existing Course” button</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1473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Main flow:</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course admin selects “Find Existing Course”</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course admin enters the course name/number</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system searches for the course and returns existing course information</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course admin adds/modifies the course information</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course admin selects the “Save” button</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671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Postconditions:</a:t>
                      </a:r>
                      <a:endParaRPr b="0" lang="en-US" sz="1400" spc="-1" strike="noStrike">
                        <a:solidFill>
                          <a:srgbClr val="ffffff"/>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Course Administrator has received an acknowledgement from the system that a course has been modified, or if not, a message explaining the failure</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1227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Alternative flows:</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3.1.  Error message is returned, the course entered does not exist.</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5.1   The course admin selects the “Cancel” button.</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         </a:t>
                      </a:r>
                      <a:r>
                        <a:rPr b="0" lang="en-US" sz="1400" spc="-1" strike="noStrike">
                          <a:solidFill>
                            <a:srgbClr val="ffffff"/>
                          </a:solidFill>
                          <a:latin typeface="Calibri"/>
                          <a:ea typeface="Calibri"/>
                        </a:rPr>
                        <a:t>The system returns the user to the main page.</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243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bl>
          </a:graphicData>
        </a:graphic>
      </p:graphicFrame>
      <p:sp>
        <p:nvSpPr>
          <p:cNvPr id="420" name="TextBox 9"/>
          <p:cNvSpPr/>
          <p:nvPr/>
        </p:nvSpPr>
        <p:spPr>
          <a:xfrm>
            <a:off x="533520" y="5715000"/>
            <a:ext cx="4267080" cy="824040"/>
          </a:xfrm>
          <a:prstGeom prst="rect">
            <a:avLst/>
          </a:prstGeom>
          <a:solidFill>
            <a:srgbClr val="ffffff"/>
          </a:solidFill>
          <a:ln w="19080">
            <a:solidFill>
              <a:srgbClr val="7fd13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1. Create a use case description for the use case “Assign courses to tutors”. The actor is the course admin</a:t>
            </a:r>
            <a:endParaRPr b="0" lang="en-US" sz="1600" spc="-1" strike="noStrike">
              <a:solidFill>
                <a:srgbClr val="ffffff"/>
              </a:solidFill>
              <a:latin typeface="Arial"/>
            </a:endParaRPr>
          </a:p>
        </p:txBody>
      </p:sp>
      <p:sp>
        <p:nvSpPr>
          <p:cNvPr id="421" name="TextBox 10"/>
          <p:cNvSpPr/>
          <p:nvPr/>
        </p:nvSpPr>
        <p:spPr>
          <a:xfrm>
            <a:off x="4648320" y="5867280"/>
            <a:ext cx="4419360" cy="824040"/>
          </a:xfrm>
          <a:prstGeom prst="rect">
            <a:avLst/>
          </a:prstGeom>
          <a:solidFill>
            <a:srgbClr val="ffffff"/>
          </a:solidFill>
          <a:ln w="19080">
            <a:solidFill>
              <a:srgbClr val="ea157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2. Create a use case description for the use case “Create new booking” for an online travel agency system. `</a:t>
            </a:r>
            <a:endParaRPr b="0" lang="en-US" sz="1600" spc="-1" strike="noStrike">
              <a:solidFill>
                <a:srgbClr val="ffffff"/>
              </a:solidFill>
              <a:latin typeface="Arial"/>
            </a:endParaRPr>
          </a:p>
        </p:txBody>
      </p:sp>
      <p:sp>
        <p:nvSpPr>
          <p:cNvPr id="422" name="TextBox 11"/>
          <p:cNvSpPr/>
          <p:nvPr/>
        </p:nvSpPr>
        <p:spPr>
          <a:xfrm>
            <a:off x="2971800" y="6400800"/>
            <a:ext cx="1447920" cy="642600"/>
          </a:xfrm>
          <a:prstGeom prst="rect">
            <a:avLst/>
          </a:prstGeom>
          <a:solidFill>
            <a:srgbClr val="ffffff"/>
          </a:solidFill>
          <a:ln w="19080">
            <a:solidFill>
              <a:srgbClr val="00add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3. Go h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21"/>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3</a:t>
            </a:r>
            <a:endParaRPr b="0" lang="en-US" sz="4000" spc="-1" strike="noStrike">
              <a:solidFill>
                <a:srgbClr val="c1eeff"/>
              </a:solidFill>
              <a:latin typeface="Consolas"/>
            </a:endParaRPr>
          </a:p>
        </p:txBody>
      </p:sp>
      <p:sp>
        <p:nvSpPr>
          <p:cNvPr id="42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25" name="Picture 2" descr="http://wiki.ucalgary.ca/images/0/0f/Problemstatement2.JPG"/>
          <p:cNvPicPr/>
          <p:nvPr/>
        </p:nvPicPr>
        <p:blipFill>
          <a:blip r:embed="rId1"/>
          <a:stretch/>
        </p:blipFill>
        <p:spPr>
          <a:xfrm>
            <a:off x="439560" y="1600200"/>
            <a:ext cx="855216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 Diagram</a:t>
            </a:r>
            <a:endParaRPr b="0" lang="en-US" sz="40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description of a system’s behavior as it responds to a request that originates from outside of that system.</a:t>
            </a:r>
            <a:endParaRPr b="0" lang="en-US" sz="3000" spc="-1" strike="noStrike">
              <a:solidFill>
                <a:srgbClr val="ffffff"/>
              </a:solidFill>
              <a:latin typeface="Corbel"/>
            </a:endParaRPr>
          </a:p>
        </p:txBody>
      </p:sp>
      <p:sp>
        <p:nvSpPr>
          <p:cNvPr id="379" name="TextBox 3"/>
          <p:cNvSpPr/>
          <p:nvPr/>
        </p:nvSpPr>
        <p:spPr>
          <a:xfrm>
            <a:off x="3048120" y="4191120"/>
            <a:ext cx="358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pecifies the “What” not the “H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3" descr=""/>
          <p:cNvPicPr/>
          <p:nvPr/>
        </p:nvPicPr>
        <p:blipFill>
          <a:blip r:embed="rId1"/>
          <a:stretch/>
        </p:blipFill>
        <p:spPr>
          <a:xfrm>
            <a:off x="835200" y="835200"/>
            <a:ext cx="7864200" cy="45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ctors</a:t>
            </a:r>
            <a:br>
              <a:rPr sz="4000"/>
            </a:b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External to the syste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ract with the syste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eople, external entities</a:t>
            </a:r>
            <a:endParaRPr b="0" lang="en-US" sz="3000" spc="-1" strike="noStrike">
              <a:solidFill>
                <a:srgbClr val="ffffff"/>
              </a:solidFill>
              <a:latin typeface="Corbel"/>
            </a:endParaRPr>
          </a:p>
        </p:txBody>
      </p:sp>
      <p:pic>
        <p:nvPicPr>
          <p:cNvPr id="383" name="Picture 3" descr=""/>
          <p:cNvPicPr/>
          <p:nvPr/>
        </p:nvPicPr>
        <p:blipFill>
          <a:blip r:embed="rId1"/>
          <a:stretch/>
        </p:blipFill>
        <p:spPr>
          <a:xfrm>
            <a:off x="7620120" y="457200"/>
            <a:ext cx="1123920" cy="1463760"/>
          </a:xfrm>
          <a:prstGeom prst="rect">
            <a:avLst/>
          </a:prstGeom>
          <a:ln w="0">
            <a:noFill/>
          </a:ln>
        </p:spPr>
      </p:pic>
      <p:pic>
        <p:nvPicPr>
          <p:cNvPr id="384" name="Picture 4" descr=""/>
          <p:cNvPicPr/>
          <p:nvPr/>
        </p:nvPicPr>
        <p:blipFill>
          <a:blip r:embed="rId2"/>
          <a:stretch/>
        </p:blipFill>
        <p:spPr>
          <a:xfrm>
            <a:off x="1066680" y="4343400"/>
            <a:ext cx="1379520" cy="1371600"/>
          </a:xfrm>
          <a:prstGeom prst="rect">
            <a:avLst/>
          </a:prstGeom>
          <a:ln w="0">
            <a:noFill/>
          </a:ln>
        </p:spPr>
      </p:pic>
      <p:pic>
        <p:nvPicPr>
          <p:cNvPr id="385" name="Picture 5" descr=""/>
          <p:cNvPicPr/>
          <p:nvPr/>
        </p:nvPicPr>
        <p:blipFill>
          <a:blip r:embed="rId3"/>
          <a:stretch/>
        </p:blipFill>
        <p:spPr>
          <a:xfrm>
            <a:off x="2895480" y="4114800"/>
            <a:ext cx="1143000" cy="1685880"/>
          </a:xfrm>
          <a:prstGeom prst="rect">
            <a:avLst/>
          </a:prstGeom>
          <a:ln w="0">
            <a:noFill/>
          </a:ln>
        </p:spPr>
      </p:pic>
      <p:pic>
        <p:nvPicPr>
          <p:cNvPr id="386" name="Picture 6" descr=""/>
          <p:cNvPicPr/>
          <p:nvPr/>
        </p:nvPicPr>
        <p:blipFill>
          <a:blip r:embed="rId4"/>
          <a:stretch/>
        </p:blipFill>
        <p:spPr>
          <a:xfrm>
            <a:off x="4495680" y="4191120"/>
            <a:ext cx="1400400" cy="1600200"/>
          </a:xfrm>
          <a:prstGeom prst="rect">
            <a:avLst/>
          </a:prstGeom>
          <a:ln w="0">
            <a:noFill/>
          </a:ln>
        </p:spPr>
      </p:pic>
      <p:pic>
        <p:nvPicPr>
          <p:cNvPr id="387" name="Picture 7" descr="server.jpg"/>
          <p:cNvPicPr/>
          <p:nvPr/>
        </p:nvPicPr>
        <p:blipFill>
          <a:blip r:embed="rId5"/>
          <a:stretch/>
        </p:blipFill>
        <p:spPr>
          <a:xfrm>
            <a:off x="6400800" y="4038480"/>
            <a:ext cx="692280" cy="170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services the system can perfor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unctionalit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n describe a sequence of ac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p-level servic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0" name="Picture 3" descr=""/>
          <p:cNvPicPr/>
          <p:nvPr/>
        </p:nvPicPr>
        <p:blipFill>
          <a:blip r:embed="rId1"/>
          <a:srcRect l="3901" t="6394" r="3429" b="0"/>
          <a:stretch/>
        </p:blipFill>
        <p:spPr>
          <a:xfrm>
            <a:off x="3352680" y="4495680"/>
            <a:ext cx="2057400" cy="111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ssociations</a:t>
            </a:r>
            <a:endParaRPr b="0" lang="en-US" sz="4000" spc="-1" strike="noStrike">
              <a:solidFill>
                <a:srgbClr val="c1eeff"/>
              </a:solidFill>
              <a:latin typeface="Consolas"/>
            </a:endParaRPr>
          </a:p>
        </p:txBody>
      </p:sp>
      <p:sp>
        <p:nvSpPr>
          <p:cNvPr id="39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es that represent relationships between actors and use case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5" name="Picture 2" descr=""/>
          <p:cNvPicPr/>
          <p:nvPr/>
        </p:nvPicPr>
        <p:blipFill>
          <a:blip r:embed="rId1"/>
          <a:srcRect l="0" t="0" r="0" b="58097"/>
          <a:stretch/>
        </p:blipFill>
        <p:spPr>
          <a:xfrm>
            <a:off x="1600200" y="1219320"/>
            <a:ext cx="617076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8" name="Picture 2" descr=""/>
          <p:cNvPicPr/>
          <p:nvPr/>
        </p:nvPicPr>
        <p:blipFill>
          <a:blip r:embed="rId1"/>
          <a:stretch/>
        </p:blipFill>
        <p:spPr>
          <a:xfrm>
            <a:off x="1623960" y="1590840"/>
            <a:ext cx="5896080" cy="367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1" name="Picture 2" descr=""/>
          <p:cNvPicPr/>
          <p:nvPr/>
        </p:nvPicPr>
        <p:blipFill>
          <a:blip r:embed="rId1"/>
          <a:stretch/>
        </p:blipFill>
        <p:spPr>
          <a:xfrm>
            <a:off x="914400" y="1143000"/>
            <a:ext cx="796932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21:41:11Z</dcterms:created>
  <dc:creator>mshouman</dc:creator>
  <dc:description/>
  <dc:language>en-US</dc:language>
  <cp:lastModifiedBy>mshouman</cp:lastModifiedBy>
  <dcterms:modified xsi:type="dcterms:W3CDTF">2009-04-01T20:24:04Z</dcterms:modified>
  <cp:revision>31</cp:revision>
  <dc:subject/>
  <dc:title>UML Use Cases</dc:title>
</cp:coreProperties>
</file>